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B00D-03F0-4F61-A35A-8B86EA62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2D38-CFDC-4770-B404-C5530F98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2C477-EDB9-46C0-B430-777037DC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6F133-7B67-433A-BB8D-94849E1F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38BA4C-A571-4514-AEF6-5AAE9006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884665-2474-4AF6-ABC4-90C000BE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382597-01E4-4CD5-906A-380C83F4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A973B-311E-451B-8AC3-0A370061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598A37-2B72-45BE-904C-01378FF9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53DBDA-E6FD-42A9-B6DF-84C82FED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E9C54B-5A98-4CED-A6B8-14340A69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7A71E-31ED-4A50-84A3-69CA8B89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04F7-78E8-45D3-94B1-A0C3C21B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ED0584-08BC-4E53-8BFD-3901A1A3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F7FE47-5E2F-4DC9-A4C0-5FEF3E9E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4DD746-16D4-454E-A9A8-14617868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751ADA-AD7B-45A3-BADE-1F13EF5F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BD28D0-4C88-4DC2-AA35-B301EA67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CB053-EDCF-4F95-91B8-40EB20AF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F34F7A-B474-48DD-B070-C7F0738D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E6CF1-0303-4A42-80AB-C9CAE7A7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9B350E-7687-459E-BDDE-465782DC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4A88E1-34BD-4EBC-8BA0-CF2FAC71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3F9A-8950-4D60-B5DD-96798E74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987C8B-E0DE-49ED-AD3E-3F209393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6FC35-D4D2-46C9-B121-558F6B36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D3EF5-9AB0-4346-8B30-DC4B8621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34489-ED29-4C40-AE62-E8486C17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841A4-399E-4A03-B21A-316A4D54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2647C-7CC9-44BC-9CA9-836A3A0F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1E09B-F39D-46D7-AACA-703DF557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52F3A-4799-4789-B2C2-9A3383A4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26F35-4746-46DB-B9F1-367B3FB2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998FF-18D8-4FA3-B95F-1F58CB40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120C-8415-424E-95F5-CA576CDF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4949A-0B6F-4AB1-938F-E4385547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8ADF1-60D1-448B-BCA0-CE7E51A6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19E39-5928-433B-A2F5-24328F32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D36217-8AA7-4021-80B4-3F9AC330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04DF3F-2E49-4E16-A622-BFC541CB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68A8D-6097-4B46-8B32-BA79230A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B3C0C-4C63-4D97-8956-EB132CBF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6F051F-8D44-4EC0-8975-3C5B3AF3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EAD54D-BC49-447E-842C-63416FC8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41B711-B9BD-48A9-948B-BB354D89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E505-AF11-44C1-AF18-81419996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BF40B5-2588-4027-B3FD-C1BB1A3A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B5EBC6-FC35-47C2-93BE-CAEFE747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62046B-B845-4EE6-A97C-D1FFB775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AD332A-F268-45B2-AEA8-840F6DF7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5825C-FA95-4970-977D-682EA67D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3147-7E31-4DDD-B0F8-E9D0B40B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C6EE-A087-43A0-853D-3CB7CA32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60A6-8E09-468E-A31C-ECF38587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43A7-1DDE-4115-B31D-4268571C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E5ED-6622-4371-875A-3BF78D22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12F9-F66D-4674-B8C7-4D61CE30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CFD8-E6C3-41A8-9F8D-7D8DCC14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5C87-9990-488E-A946-61C9AC62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80FD-F8D2-4EBD-AADB-1AE519C2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A8A0-8B09-439F-9ABC-D76C457F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BB34-01AB-4A78-8D94-8B9F3FA0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A2EB1-6576-4D66-B3B6-4B03F43C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AD306-0A59-4C0F-884C-9FF03316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A6998-9686-4ABB-992A-2D20ABE4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D039C-6F7A-4E54-83BD-0BD10D3B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99F72-11B9-40C1-9A4C-DDF2FA53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6356-A3B2-4669-B2EA-27FB9282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5A43D-89AC-407F-906D-2CAA2DC2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ABF38-CFB8-44DC-A61C-D7FE7ADC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5BF4E-17B4-446F-82CB-A0A86528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912B1-A869-4637-AC89-DC8F5AE3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3AA18-013B-488A-BB1B-E5B6D944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65F42-FD66-42A6-B4A0-52C6FA07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1DE12-B9EA-484F-BFFF-28CB98D8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91071-0D63-4622-8B7A-0A4EAEA0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6C29D-047C-4CA0-ACF4-C20EF3E5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5BBD6-3BDF-4002-9BC3-0E1C1F9D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19E0-176D-4043-8738-C1B8CB5E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06780-2FDD-4D87-8BFB-B5CA7C58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B13FF-3660-4F42-99D0-AAE30E83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BA453-60A1-49FC-8D95-571AA8D3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5C7FD-B273-4C8D-9A64-F18E57BD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71552-79CC-499C-A91F-B863AB7B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41579-8DFB-469A-AC03-5CD22B7F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7D2F8-DC44-4C24-BF60-458A87BE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2ED8B-1413-417B-8E25-CDF8D262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0675E-79EC-4F9F-A0FA-C9433250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03F67-D568-4EE4-BF0D-08290E85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AB4B-D4A3-4AD0-90A4-72CA3B94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DFE13-6F40-4045-8735-E42BED32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54339-CA85-479E-80C1-ACFB8FF3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CE2BB-673B-4BEE-ADEF-8DBE143E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C0DA1-8D9B-4F6C-8F0F-901F2B17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0ED66-9EE7-4F8E-86FE-0FD279C2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281AB-7A04-43C7-A00F-2D986257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36159-BDFF-41BD-8496-DF10F544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4375D-2BD6-4108-9DD3-DAFD15CA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7D380-FA33-43EB-A613-E7CF2C1A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D8DDD-4D10-4168-AC54-96323367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714C-1435-43C8-95B6-258CEA2F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97F10-55A3-49EB-AC89-C7AADF21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BD5CD-F455-4F14-90E0-F90F394B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EA569-98FA-486E-881B-41777262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2BC8A-0FC8-44B1-99E0-E2230392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D2BC6-7D8E-4DFC-A82C-45805CC2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C300B-4FDF-44E1-8ABE-1D1EEADB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289DC-9234-4554-B424-3FB6929D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36A94-BDA8-4980-B476-02AEC912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D24B1-961B-4B83-A142-E5FC5F0F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143B5-B7A3-4E55-A86B-8A08676B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B6F-16EC-4F99-AABE-7678EC18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09F8A-41CB-4429-8390-731FFBB5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B4ACA-5790-4706-BD3E-9B522BD4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20890-8A88-4706-8A0B-76BB5B7C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35E5F-C5C0-474C-B13F-88EBB972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4D688-E39A-4B0F-B75F-F9E567F8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E7C8A-ADB2-44CD-BD12-531EB37D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0D564-D655-4A50-9989-99DEC918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1A2B4-0C95-488C-A8BC-D8178999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259B6-9DF3-4950-9BAA-CC496808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BDE12-9D64-48AF-B425-4E53C6D4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EA4-82E9-432E-AECD-272AD398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0BB41-3A49-4F61-B40B-1A515B32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7787C-E2E7-47CF-A0E5-F6C1160C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6AF4B-8392-4BFB-A21F-C0C7B1B4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FCCB9-3C61-4AB2-A5BF-23BAFC74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7EFC4-1592-4871-8EA4-009A738D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6DB52-7B95-4C1D-887F-5CFE3A1D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FFA92-D86A-48BE-9170-BAF91F95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6F718-73C6-40C5-A39B-03179AB6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9A0F7-F101-4B53-ABA7-A62F74B8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2B51D-6833-425A-8856-D0F65BF4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412-3654-419B-BBE0-BD213812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B4104-EE12-4FC8-8367-AF608A39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3F3DD-C12C-4B93-A205-0DBEE771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162B0-D2AC-41F4-9BEC-695542F4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14C66-7B23-400F-8EAC-FE1E7E61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2E850-7885-4E42-A44A-0D47C329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D94D4-23D9-4805-85DD-C47EA252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9DCA0-18E7-45EC-B195-01B5F140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327088-B062-49DE-9FA7-09AFFF3E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5E1024-0B2D-4EBE-852B-419AF0BF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447B3-9E6E-4FA2-BCF8-06E6EFB5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3789-B890-40FA-A4A9-9CAB08C1CE2A}" type="datetime">
              <a:rPr b="0" lang="en-AU" sz="1400" spc="-1" strike="noStrike">
                <a:solidFill>
                  <a:srgbClr val="ffffff"/>
                </a:solidFill>
                <a:latin typeface="Georgi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2ECA-3002-45B3-AACB-2F4E2BDEF527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3485-8E92-4E45-A5AD-9753DBB59F01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930D-899E-4BD2-B01C-9334151FB5BB}" type="datetime">
              <a:rPr b="0" lang="en-AU" sz="1400" spc="-1" strike="noStrike">
                <a:solidFill>
                  <a:srgbClr val="ffffff"/>
                </a:solidFill>
                <a:latin typeface="Georgi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D1D2-D2F4-46EF-A2BF-980431B814FE}" type="datetime">
              <a:rPr b="0" lang="en-AU" sz="1400" spc="-1" strike="noStrike">
                <a:solidFill>
                  <a:srgbClr val="ffffff"/>
                </a:solidFill>
                <a:latin typeface="Georgi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256D-5211-4CC0-BFA2-10B8CE0869F5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A698-23E9-4021-9980-5B7AE3AE607F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2019-06FD-4393-A72D-4315F4021CB8}" type="datetime">
              <a:rPr b="0" lang="en-AU" sz="1400" spc="-1" strike="noStrike">
                <a:solidFill>
                  <a:srgbClr val="ffffff"/>
                </a:solidFill>
                <a:latin typeface="Georgi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0C26-41A0-4131-A9BD-3D5A8D45E3E1}" type="datetime">
              <a:rPr b="0" lang="en-AU" sz="1400" spc="-1" strike="noStrike">
                <a:solidFill>
                  <a:srgbClr val="ffffff"/>
                </a:solidFill>
                <a:latin typeface="Georgi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25D3-1E4B-42B6-B117-84F5DC14EE5D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5D3D-2AE1-4402-B1A6-AE7E09B53322}" type="datetime">
              <a:rPr b="0" lang="en-AU" sz="1400" spc="-1" strike="noStrike">
                <a:solidFill>
                  <a:srgbClr val="ffffff"/>
                </a:solidFill>
                <a:latin typeface="Georgi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92DF-7C32-4D9A-A3B6-FD7DDE66BE81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0429-C967-4CB9-8302-1F5EF691FAB9}" type="datetime">
              <a:rPr b="0" lang="en-AU" sz="1400" spc="-1" strike="noStrike">
                <a:solidFill>
                  <a:srgbClr val="ffffff"/>
                </a:solidFill>
                <a:latin typeface="Georgi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593B-E94A-45A3-A4F8-4CDDE51E3652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9414-3CA1-4E13-B6EC-D8665706D9D0}" type="datetime">
              <a:rPr b="0" lang="en-AU" sz="1400" spc="-1" strike="noStrike">
                <a:solidFill>
                  <a:srgbClr val="ffffff"/>
                </a:solidFill>
                <a:latin typeface="Georgi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718E-D2D9-47FB-9A20-C5D3430F5D3C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DF0D-4866-4F41-99F2-2CA2699F0A57}" type="datetime">
              <a:rPr b="0" lang="en-AU" sz="1400" spc="-1" strike="noStrike">
                <a:solidFill>
                  <a:srgbClr val="ffffff"/>
                </a:solidFill>
                <a:latin typeface="Georgi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6B63-711B-4AA0-8FBB-06839FA2AC0C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D73D-32C5-4EC4-9C7A-1EC10730ECD0}" type="datetime">
              <a:rPr b="0" lang="en-AU" sz="1400" spc="-1" strike="noStrike">
                <a:solidFill>
                  <a:srgbClr val="ffffff"/>
                </a:solidFill>
                <a:latin typeface="Georgi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EEB6-466E-4A40-9945-79E57AF15691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583B-50DB-426E-9B10-011E3E991688}" type="datetime">
              <a:rPr b="0" lang="en-AU" sz="1400" spc="-1" strike="noStrike">
                <a:solidFill>
                  <a:srgbClr val="ffffff"/>
                </a:solidFill>
                <a:latin typeface="Georgi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ECE8-23B0-4D95-9DE1-2568C58636B1}" type="slidenum">
              <a:rPr b="0" lang="en-A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0815-EEE1-4576-AA94-1208D6F85376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68E1-411E-44AC-90EE-DE68FEBAB00D}" type="datetime">
              <a:rPr b="0" lang="en-AU" sz="1400" spc="-1" strike="noStrike">
                <a:solidFill>
                  <a:srgbClr val="ffffff"/>
                </a:solidFill>
                <a:latin typeface="Georgi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d16349"/>
                </a:solidFill>
                <a:latin typeface="Georgia"/>
              </a:rPr>
              <a:t>Issues Analysis  Review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Anecdot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Personal stories or experiences that are shared to relate a poi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Can usually be easily spotted through </a:t>
            </a:r>
            <a:r>
              <a:rPr b="1" lang="en-AU" sz="2700" spc="-1" strike="noStrike">
                <a:solidFill>
                  <a:srgbClr val="000000"/>
                </a:solidFill>
                <a:latin typeface="Georgia"/>
              </a:rPr>
              <a:t>first-person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perspectives and references to events pas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I take the train every day. I pay for my Metcard, stick it in the machine and leave. I don’t see why I have to take another plastic card out, flatten it against a scanner and wait for it to beep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Alliter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Repeating the opening syllable or sound throughout a sentenc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Used to appeal to readers by using catchy phrases and draws attention to the issu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D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on’t </a:t>
            </a: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d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iss the </a:t>
            </a: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D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emons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Appea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The author can appeal to the reader by aiming comments and remarks at a particular aspect of the audience’s mind. For example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Nationalism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AU" sz="2000" spc="-1" strike="noStrike">
                <a:solidFill>
                  <a:srgbClr val="646b86"/>
                </a:solidFill>
                <a:latin typeface="Georgia"/>
              </a:rPr>
              <a:t>The Australian thing to do is to welcome people to our shores.”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Fea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AU" sz="2000" spc="-1" strike="noStrike">
                <a:solidFill>
                  <a:srgbClr val="646b86"/>
                </a:solidFill>
                <a:latin typeface="Georgia"/>
              </a:rPr>
              <a:t>You don’t want Mr Jones to come back, do you comrades?”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Compass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AU" sz="2000" spc="-1" strike="noStrike">
                <a:solidFill>
                  <a:srgbClr val="646b86"/>
                </a:solidFill>
                <a:latin typeface="Georgia"/>
              </a:rPr>
              <a:t>You have to feel sorry for those kids who lost their parents and have nowhere to live.”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Famil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AU" sz="2000" spc="-1" strike="noStrike">
                <a:solidFill>
                  <a:srgbClr val="646b86"/>
                </a:solidFill>
                <a:latin typeface="Georgia"/>
              </a:rPr>
              <a:t>Your children deserve to grow up in a safe environment.”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Modernis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AU" sz="2200" spc="-1" strike="noStrike">
                <a:solidFill>
                  <a:srgbClr val="646b86"/>
                </a:solidFill>
                <a:latin typeface="Georgia"/>
              </a:rPr>
              <a:t>It’s the way of the future. Doing things the old way would be living like cavemen.”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Mora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AU" sz="2200" spc="-1" strike="noStrike">
                <a:solidFill>
                  <a:srgbClr val="646b86"/>
                </a:solidFill>
                <a:latin typeface="Georgia"/>
              </a:rPr>
              <a:t>Eating animals is murder. You wouldn’t eat another human; why would you eat another animal?”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Freedom and choi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AU" sz="2200" spc="-1" strike="noStrike">
                <a:solidFill>
                  <a:srgbClr val="646b86"/>
                </a:solidFill>
                <a:latin typeface="Georgia"/>
              </a:rPr>
              <a:t>Everyone has the right to be who they want to be. It is not up to one person to dictate who you become.”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Simi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A simile is a statement that compares one idea to something else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Look for the words </a:t>
            </a:r>
            <a:r>
              <a:rPr b="1" lang="en-AU" sz="2500" spc="-1" strike="noStrike">
                <a:solidFill>
                  <a:srgbClr val="000000"/>
                </a:solidFill>
                <a:latin typeface="Georgia"/>
              </a:rPr>
              <a:t>like</a:t>
            </a: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AU" sz="2500" spc="-1" strike="noStrike">
                <a:solidFill>
                  <a:srgbClr val="000000"/>
                </a:solidFill>
                <a:latin typeface="Georgia"/>
              </a:rPr>
              <a:t>as</a:t>
            </a: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Made to point out a similarity between ideas, sometimes to ridicule them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 u="sng">
                <a:solidFill>
                  <a:srgbClr val="000000"/>
                </a:solidFill>
                <a:uFillTx/>
                <a:latin typeface="Georgia"/>
              </a:rPr>
              <a:t>Exampl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Watching the Grand Final is as satisfying as watching pigs roll around in mud.”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Writing this essay is like trying to type without a screen and all your vowels are missing.”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Metapho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Instead of comparing something to something else, a metaphor states that something </a:t>
            </a:r>
            <a:r>
              <a:rPr b="1" lang="en-AU" sz="2700" spc="-1" strike="noStrike">
                <a:solidFill>
                  <a:srgbClr val="000000"/>
                </a:solidFill>
                <a:latin typeface="Georgia"/>
              </a:rPr>
              <a:t>is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something els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Your brain is a sack of potatoes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Your potatoes are mouldy rocks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Attack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Using words or phrases that make a person look ba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Used to turn the reader’s favour towards the author and against the targe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The minister is selfish and corrupt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Management has absolutely no clue what they are doing. A bunch of monkeys could do better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Colloquial langua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Using common or slang word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Used to attract to a particular audience or to put the author on the same level as the read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Examples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Your son is a noob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Cliché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Commonly (or overused) phrases that readers can easily recognise and relate to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Example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He was like a fish out of water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That’s just the tip of the iceberg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Exagger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Hyperbole (or exaggeration) is when the author inflates reality and makes it look much bigger or small than it actually i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The millions and millions of Rock fans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Basic concep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Issues are complex matters that often involve debate and discussion and concern many peopl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Issues are usually presented so that there are two clear, opposing sides: </a:t>
            </a:r>
            <a:r>
              <a:rPr b="1" lang="en-AU" sz="2700" spc="-1" strike="noStrike">
                <a:solidFill>
                  <a:srgbClr val="000000"/>
                </a:solidFill>
                <a:latin typeface="Georgia"/>
              </a:rPr>
              <a:t>for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1" lang="en-AU" sz="2700" spc="-1" strike="noStrike">
                <a:solidFill>
                  <a:srgbClr val="000000"/>
                </a:solidFill>
                <a:latin typeface="Georgia"/>
              </a:rPr>
              <a:t>against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Emotive langua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Using words that are meant to invoke a certain feeling or emo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The death was heartbreakingly tragic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What happened yesterday was nothing short of shame and embarrassment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Terminolo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Georgia"/>
              </a:rPr>
              <a:t>Contention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646b86"/>
                </a:solidFill>
                <a:latin typeface="Georgia"/>
              </a:rPr>
              <a:t>The point of a view of a particular person or group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646b86"/>
                </a:solidFill>
                <a:latin typeface="Georgia"/>
              </a:rPr>
              <a:t>What the person thinks should happe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Georgia"/>
              </a:rPr>
              <a:t>Argument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646b86"/>
                </a:solidFill>
                <a:latin typeface="Georgia"/>
              </a:rPr>
              <a:t>A point or statement made to support the contentio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Georgia"/>
              </a:rPr>
              <a:t>Stakehold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646b86"/>
                </a:solidFill>
                <a:latin typeface="Georgia"/>
              </a:rPr>
              <a:t>A person or group who is affected by the issue, and therefore has a say in what should happe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Persuasive Techniqu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Inclusive langua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Rhetorical ques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Statistic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Expert opin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Pu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Alliter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Anecdot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Appea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Inclusive langua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Using language that makes the reader feel part of the issu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Look for words such as “we”, “us” and “our”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We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need to move Australia forward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It’s </a:t>
            </a: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our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problem, and </a:t>
            </a: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we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need to deal with it </a:t>
            </a: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together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Rhetorical ques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Questions that are asked but have an obvious answer or are not meant to be answere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Is meant to point out obvious flaws in arguments and raise awkward questions for the opposi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Examp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Why would a cow want to order a hamburger?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You wouldn’t want a murderer to go free, would you?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Statistic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Using research and data to support an argum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Is meant to impress the reader with facts and figur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Look for percentages and numbers, and pay attention to words such as </a:t>
            </a:r>
            <a:r>
              <a:rPr b="1" lang="en-AU" sz="2700" spc="-1" strike="noStrike">
                <a:solidFill>
                  <a:srgbClr val="000000"/>
                </a:solidFill>
                <a:latin typeface="Georgia"/>
              </a:rPr>
              <a:t>researchers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AU" sz="2700" spc="-1" strike="noStrike">
                <a:solidFill>
                  <a:srgbClr val="000000"/>
                </a:solidFill>
                <a:latin typeface="Georgia"/>
              </a:rPr>
              <a:t>studies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1" lang="en-AU" sz="2700" spc="-1" strike="noStrike">
                <a:solidFill>
                  <a:srgbClr val="000000"/>
                </a:solidFill>
                <a:latin typeface="Georgia"/>
              </a:rPr>
              <a:t>surveys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Examp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95% of facts involving 95% are made up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One in five people have some sort of mental illness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Expert opin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Quotes and statements from people in established positions, often providing insight into certain attitudes and behaviours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Is meant to provide more weight to an argument by referring to someone who has a lot of knowledge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Look for terms such as </a:t>
            </a:r>
            <a:r>
              <a:rPr b="1" lang="en-AU" sz="2500" spc="-1" strike="noStrike">
                <a:solidFill>
                  <a:srgbClr val="000000"/>
                </a:solidFill>
                <a:latin typeface="Georgia"/>
              </a:rPr>
              <a:t>university</a:t>
            </a: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AU" sz="2500" spc="-1" strike="noStrike">
                <a:solidFill>
                  <a:srgbClr val="000000"/>
                </a:solidFill>
                <a:latin typeface="Georgia"/>
              </a:rPr>
              <a:t>professor, doctor</a:t>
            </a: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 and other professional people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 u="sng">
                <a:solidFill>
                  <a:srgbClr val="000000"/>
                </a:solidFill>
                <a:uFillTx/>
                <a:latin typeface="Georgia"/>
              </a:rPr>
              <a:t>Example</a:t>
            </a: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Michio Kaku, professor at Tokyo University and a lecturer in computer technology, believes that one day robots will have minds of their own.”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Pu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Puns are a play on words, which are meant to amuse and sometimes ridicule the topic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Example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Melbourne goes through </a:t>
            </a:r>
            <a:r>
              <a:rPr b="0" lang="en-AU" sz="2700" spc="-1" strike="noStrike" u="sng">
                <a:solidFill>
                  <a:srgbClr val="000000"/>
                </a:solidFill>
                <a:uFillTx/>
                <a:latin typeface="Georgia"/>
              </a:rPr>
              <a:t>stormy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weather: NRL investigates salary cap breaches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Another person got electrocuted? Shocking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3:06:24Z</dcterms:created>
  <dc:creator>David Nguyen</dc:creator>
  <dc:description/>
  <dc:language>en-US</dc:language>
  <cp:lastModifiedBy>Valued Acer Customer</cp:lastModifiedBy>
  <dcterms:modified xsi:type="dcterms:W3CDTF">2011-05-24T01:43:55Z</dcterms:modified>
  <cp:revision>10</cp:revision>
  <dc:subject/>
  <dc:title>Issues Analysis  Review</dc:title>
</cp:coreProperties>
</file>